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E30-3869-4E4B-9692-77DBA846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F33-F9BB-4246-A5FF-C26CDC1E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544-3B9C-4C2D-83DD-45906561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3BE-3359-4B09-9CAA-857320B2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96C-55F7-4C06-AF79-B96C51DB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D9D-8E46-4C84-AFDF-F199DAA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0A6-E511-4749-8D25-2C44D9CC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B54-B4C2-4484-90DE-CFF3872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105-A84C-48D2-BE4E-D50372D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5DB-6E70-4CAE-ABBD-C1FADEA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54D-D3DA-4F17-ACDA-A4C003F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8F6-21A2-412F-848D-B04C61D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9A44-F3C9-4ED2-85BC-BE18C546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rbanlegends.about.com/library/n_saddam_capture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topics.cnn.com/topics/Iraq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3720" y="5714640"/>
            <a:ext cx="579132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an AND 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IR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AKA HOME OF THE TOWEL H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nytimes.com/2005/08/16/international/middleeast/16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geography.about.com/b/2007/05/08/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life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expectancy-in-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https://www.cia.gov/library/publications/the-world-factbook/print/iz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worldinfozone.com/country.php?country=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54100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ocation: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andforms: desert, Some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ater systems: U.S., some mar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Natural Resources: Oil,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limate: Dry, Hot, and H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ildlife: Bugs, Birds, and Sn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4816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ik Humam Hamoudi, chairman of the constitutional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i Izara al-Majoun of the United Iraqi Alli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990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expecta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=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= 6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133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= 28,221,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apture of Saddam Husse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History and current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3703680"/>
            <a:ext cx="44197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metime in 2003 we invaded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ecember 13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2003: Saddams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438280"/>
            <a:ext cx="4419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AGHDAD, Iraq (CNN) -- A roadside bomb attack on Monday killed two U.S. soldiers in Baghdad, the U.S. military sai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nother soldier was wounded in the attack and taken to a combat support hospital, according to military spokesman Lt. David Russ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e deaths follow an incident Saturday in which a U.S. soldier died and two others were injured when their vehicle rolled over at a forward operating base near Balad, north of Baghdad, Russell s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July marked the lowest monthly toll of the war, with 11 U.S. troop deaths -- six killed in hostilities and five dying from causes not related to combat, according to a CNN count of figures released by the Penta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With the three deaths in August, 4,130 U.S. military personnel have died since th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raq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 war began in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" cy="1219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Economy in Ir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ndustry: Oil an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ajor Exports: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urrency: D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Clothes: they were same clothes as us just some aren’t our brand like hollister. Some women and men are fully covered in 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Foods: Soups and stews are prepared with vegetables and meat. Beef, lamb, poultry, and fish are eaten with rice and vegetables: aubergines, beans, chickpeas, lentils, okra, onions, peppers, potatoes and toma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 c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anguage: Arabic is the main language. Kurdish is the official language in the Kurdish regions of Iraq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Religion: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rchitecture/Building styles: Shanas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ourist Attractions: Saddams hiding place, since capture this place is bang’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istorical Places: The Umayyad Mosque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he first ever in the city, built in 640 AD by Utba bin Farqad Al-Salami after he conquered Mosul in the reign of Caliph Omar ibn Al-Khattab. The only part still extant is the remarkably elaborate brickwork 52 m high minaret that leans like the Tower of Pisa, called Al-Hadba (The Humped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0:05Z</dcterms:created>
  <dc:creator>ethanrlawson</dc:creator>
  <dc:description/>
  <dc:language>en-US</dc:language>
  <cp:lastModifiedBy>ethanrlawson</cp:lastModifiedBy>
  <dcterms:modified xsi:type="dcterms:W3CDTF">2009-02-24T14:41:07Z</dcterms:modified>
  <cp:revision>7</cp:revision>
  <dc:subject/>
  <dc:title>Ethan AND Andy</dc:title>
</cp:coreProperties>
</file>